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1D6-2BF5-477E-927C-F568942B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595-4452-4FCA-A5A0-3A79E6E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A82-8615-49E2-95A9-53CC663D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01E-B385-4949-BDD5-9BFD33D8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B36-0873-44B6-901C-9B318EF6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4EB-7742-4E0C-A533-625648C9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A12-1D40-49C2-9779-C6960FE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806-E7F1-4D50-8820-5014D19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CB3-7560-47C0-B379-8319170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8D2-A082-4C67-9F33-916C4A9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2D5-2C84-4128-9D59-C229558F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C5D-41BF-4406-8E63-659DD19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344-B518-4645-B060-202ED371A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160" y="1905120"/>
            <a:ext cx="7305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 B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157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69608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7543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848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1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35049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62120"/>
            <a:ext cx="701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9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19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69608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705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696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9250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7925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1:43:37Z</dcterms:modified>
  <cp:revision>216</cp:revision>
  <dc:subject/>
  <dc:title>Slide 1</dc:title>
</cp:coreProperties>
</file>